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D99C-2E8E-4B57-B4F4-0E4920D26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657C-FC77-465A-B8BF-13E32E2CB6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5 boxes across and 6 boxes down: total of 30 boxes.  Position: edge of table touches both left and right edge of slide.  Top of table is 1” from top of page and bottom is 1” from bottom of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 of colum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Literary term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Light in the Fores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ocabulary, Test Taking Strategies, and Anything Goes: all in Arial font, size 22 and all centered justified all in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seco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fifth column, $100 - $500 dollar amount: Arial font, size 28 and all centered justified all in orange. All hyperlink to different pages throughout slide show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inal Jeopardy!! In text box, .67”  horizontal and 0” vertical from top left hand corner.  Font: Arial Black 48 point font in yellow-oran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al Jeopard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75” horizontally and 7” vertically from top left hand corner.  Arial font size 24, orange color.  Hyperlink to final Jeopardy page (last page of slide show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838080" y="4114800"/>
            <a:ext cx="5639040" cy="327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914400" y="7467480"/>
            <a:ext cx="53341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earning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organization: 3.4: logically organized text: each piece is chunked into its own category.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ivation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each question gets harder as you go through, therefore, the students start off with the easier information and get a sense of accomplishmen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838080" y="7391520"/>
            <a:ext cx="56390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DB79-6227-4571-BF90-30E7CAC290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4343400"/>
            <a:ext cx="5334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1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838080" y="4267080"/>
            <a:ext cx="5639040" cy="26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838080" y="69343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 Motiv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there is immediate feedback to the students.  Setup in a game format making it more competitive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ercep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the rate of instruction is slow enough for students to determine the answer, yet quick enough so that they do not lose their focus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e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all objects are aligned: the wording to the left and the picture to the right, based on the last letter or number in the tit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838080" y="6934320"/>
            <a:ext cx="56390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0FA6-C49E-411C-ADB3-CB535EED1B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410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2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838080" y="4191120"/>
            <a:ext cx="563904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914400" y="7010280"/>
            <a:ext cx="556272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tiva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ositive Impress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5.2- Text on the page is kept to a minimum so that students wont be overwhelmed. Well organized and familiar with type size, style, etc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adable Style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- Passages are small and to the point. Wording is familiar and comfortable; not over their heads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peti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slides have the same style of text and the same background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ment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wording objects are aligned to the left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38080" y="6934320"/>
            <a:ext cx="563904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DD4C-CC22-4436-B0A3-E4659B2037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969-94F2-4666-A0A6-EFBBD5F8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86F-9547-468B-A3FB-7CBEB0F0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4D8-E443-490B-A50A-94A31D08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E2F-3A03-4C70-ABF6-97DAC47C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AD28-6392-4870-A6CA-93F39BE8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EF78-52F3-484F-A319-48A78460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F8E9-B6A3-4594-AC14-D24194CB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BA7B-1FF7-44CB-90BF-7A345C34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5C84-290A-4056-A546-5E87F369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B755-746F-4A18-A509-BD4BFE2C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287F-4B81-475D-8811-D12E63E7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68B-BCA9-4163-A5A0-FDA94CBF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09A0-2F1C-4170-8626-5B0BA4F6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F181-82E8-49D6-A046-284E75F8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66AE-0851-41C9-8327-5CD65B67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A5E7-B264-42FF-8088-912EDA3A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25F2-45A4-4816-A9EE-69768865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687-A62A-4A0C-8E49-44205DBF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619-FD31-4D03-A0D2-DB8BF485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BCF-07EA-4A16-9E10-5D0E8E1E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707-6F3E-4A38-8C6E-4F3E88B8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242-4EBC-427C-BD29-AD4FE9FE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40A-5DC6-4315-8B60-EA8656C3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069-770F-450B-9D91-5DA0F6B5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2F99-B0EC-47EA-B95A-577796966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8002-F7C6-4A42-A8CB-9BE384B0CC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5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JEOPARD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914400"/>
          <a:ext cx="9144000" cy="5062680"/>
        </p:xfrm>
        <a:graphic>
          <a:graphicData uri="http://schemas.openxmlformats.org/drawingml/2006/table">
            <a:tbl>
              <a:tblPr/>
              <a:tblGrid>
                <a:gridCol w="1844640"/>
                <a:gridCol w="1924200"/>
                <a:gridCol w="1717560"/>
                <a:gridCol w="1843200"/>
                <a:gridCol w="1814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uth America 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uth America 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cient Geograp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esting Fac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urrent Ev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133"/>
          <p:cNvSpPr/>
          <p:nvPr/>
        </p:nvSpPr>
        <p:spPr>
          <a:xfrm>
            <a:off x="3429000" y="6400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8d43"/>
                </a:solidFill>
                <a:uFillTx/>
                <a:latin typeface="Arial"/>
                <a:hlinkClick r:id="rId26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re the two big industries in Argentina?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066680" y="43434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rming and ranch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outh America (2) - $4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5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914400" y="4876920"/>
            <a:ext cx="6019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914400" y="434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uth America (2)- $500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9" name="Picture 11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5"/>
          <p:cNvSpPr/>
          <p:nvPr/>
        </p:nvSpPr>
        <p:spPr>
          <a:xfrm>
            <a:off x="838080" y="495288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– Colombia   B – Venezuela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– Ecuador      D - Pe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12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4953240" cy="28195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3"/>
          <p:cNvSpPr/>
          <p:nvPr/>
        </p:nvSpPr>
        <p:spPr>
          <a:xfrm>
            <a:off x="244620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Box 14"/>
          <p:cNvSpPr/>
          <p:nvPr/>
        </p:nvSpPr>
        <p:spPr>
          <a:xfrm>
            <a:off x="3051360" y="205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122256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5" name="Straight Arrow Connector 18"/>
          <p:cNvCxnSpPr/>
          <p:nvPr/>
        </p:nvCxnSpPr>
        <p:spPr>
          <a:xfrm flipV="1">
            <a:off x="1599840" y="2590560"/>
            <a:ext cx="610200" cy="45792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6" name="TextBox 23"/>
          <p:cNvSpPr/>
          <p:nvPr/>
        </p:nvSpPr>
        <p:spPr>
          <a:xfrm>
            <a:off x="2362320" y="27432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ncient Geography - 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or False.  Fort Bedford was built during the French and Indian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600200" y="5029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-11520"/>
            <a:ext cx="72392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ncient Geography- $2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Como te llamas mean?  (Good morning; How are you; What is your na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295280" y="49528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your nam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ncient Geography-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iece of land did the Canadian government create for the Inuit’s?  (Manitoba, Ontario, Yukon, Nunavu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8"/>
          <p:cNvSpPr/>
          <p:nvPr/>
        </p:nvSpPr>
        <p:spPr>
          <a:xfrm>
            <a:off x="1295280" y="4648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nav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ncient Geography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oes Buenas Noches mea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5"/>
          <p:cNvSpPr/>
          <p:nvPr/>
        </p:nvSpPr>
        <p:spPr>
          <a:xfrm>
            <a:off x="2209680" y="48006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ood Nig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ncient Geography - 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066680" y="51814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– Africa; B – Europe; C – Asia; D – Australia; E – North America; F – South Ame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12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6261120" cy="33908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7"/>
          <p:cNvSpPr/>
          <p:nvPr/>
        </p:nvSpPr>
        <p:spPr>
          <a:xfrm>
            <a:off x="176040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1527480" y="27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2670480" y="2666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Box 10"/>
          <p:cNvSpPr/>
          <p:nvPr/>
        </p:nvSpPr>
        <p:spPr>
          <a:xfrm>
            <a:off x="3584160" y="403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Box 11"/>
          <p:cNvSpPr/>
          <p:nvPr/>
        </p:nvSpPr>
        <p:spPr>
          <a:xfrm>
            <a:off x="548964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Box 12"/>
          <p:cNvSpPr/>
          <p:nvPr/>
        </p:nvSpPr>
        <p:spPr>
          <a:xfrm>
            <a:off x="609876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teresting Facts 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 three cities in regards to population in the United States are ________, Los Angeles, and Chicag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066680" y="44956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ew Yor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hemisphere is Argentina located?  (North or Sout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066680" y="480060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u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teresting Facts 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1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are twice as many ________ in Australia as there are peop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143000" y="46483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Kangaroo’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teresting Facts - $3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5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82224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South America (1)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.  Futbol is the most popular sport in Argent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52480" y="3581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st the top four continent in regards to land siz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990720" y="8348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teresting Facts - $400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8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5"/>
          <p:cNvSpPr/>
          <p:nvPr/>
        </p:nvSpPr>
        <p:spPr>
          <a:xfrm>
            <a:off x="1523880" y="441972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ia, Africa, North America, South Ame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astest production car in the world at 267 mph?  (McLaren F1; Lamborghini Diablo; Bugatti Veyron; Jaguar XJ22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295280" y="51055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Bugatti Veyr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990720" y="89676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teresting Facts- $500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53" name="Picture 6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- $1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sports arena did a little boy die after he fell from the second level, causing many sports teams to evaluate safety in upper seating areas: Staples Center, RFK Stadiu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371600" y="48006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ples Stadi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2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ay last week was one of the most active travel days of the yea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066680" y="4876920"/>
            <a:ext cx="632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ednesday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- $3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ilm that came out the weekend before Thanksgiving drew $61 million at the box office the first nigh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990720" y="43434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rry Po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weekend, while playing basketball, what government leader suffered a cut that required stitch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295280" y="480060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resident Obama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238880" y="4324320"/>
            <a:ext cx="1905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- $5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astern European nation recently built the world’s largest statue of Jesus, standing 108 fee high? (Czech Republic; Poland; Turke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38080" y="49528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238880" y="4324320"/>
            <a:ext cx="1905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nal Jeopar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e a thesis statement out of the questions below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609480" y="350532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why True Son was frightened to return to the Butler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74592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South America (1) 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capital city of Argentina and what is the national dance of Argentina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295280" y="48769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enos Aires/ Tang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298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outh America (1) -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helped Venezuela achieve independence from Spai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371600" y="44956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on Boliv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75888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uth America (1) - 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ountain range towers over the western part of Argentina?  Name the official language and the religion that is practiced the most in Argent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523880" y="42670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es/ Spanish/ Roman Catholic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outh America (1) - 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80880" y="541008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Brazil   B  - Bolivia  C=  Paraguay   D – Urugu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 Argen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3429000" y="220968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442296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13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4"/>
          <p:cNvSpPr/>
          <p:nvPr/>
        </p:nvSpPr>
        <p:spPr>
          <a:xfrm>
            <a:off x="3512880" y="2819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2746800" y="3048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320040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3581280" y="4267080"/>
            <a:ext cx="2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8" name="Straight Arrow Connector 19"/>
          <p:cNvCxnSpPr>
            <a:stCxn id="177" idx="0"/>
          </p:cNvCxnSpPr>
          <p:nvPr/>
        </p:nvCxnSpPr>
        <p:spPr>
          <a:xfrm flipH="1" flipV="1">
            <a:off x="3428640" y="3962160"/>
            <a:ext cx="280080" cy="3052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79" name="TextBox 26"/>
          <p:cNvSpPr/>
          <p:nvPr/>
        </p:nvSpPr>
        <p:spPr>
          <a:xfrm>
            <a:off x="2822760" y="3886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outh America (2) - 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.  The Absolute Location locates a place using a coordinate syst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295280" y="502920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major cash crop in Colombia?  In which country would you find Machu Picchu?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066680" y="38098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ffee;  Per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outh America (2) - $200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7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 country would you find the world’s highest waterfall and what is this waterfall call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371600" y="388620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nezuela/ Angel Fa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914400" y="80496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outh America (2) – 300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1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0:38:57Z</dcterms:created>
  <dc:creator>Student</dc:creator>
  <dc:description/>
  <dc:language>en-US</dc:language>
  <cp:lastModifiedBy>Tom Otis</cp:lastModifiedBy>
  <dcterms:modified xsi:type="dcterms:W3CDTF">2010-12-03T01:42:45Z</dcterms:modified>
  <cp:revision>162</cp:revision>
  <dc:subject/>
  <dc:title>Jeopardy</dc:title>
</cp:coreProperties>
</file>